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E1A90-AA65-4DB3-A2C6-3CA56C4F0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AB15F-B765-4ECD-84FF-03003820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5096C-0756-4C3B-A751-7C9201426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5292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55056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5564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65292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55056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341BF-8D04-4AF9-B685-DC1C7701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82C4-C5CA-462B-A725-E00A9626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2271-9E73-44AB-B2D6-792F199A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C0B3-07CE-4469-BFE5-A30A7382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834E-1E14-4868-A7AB-6D394299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14CC-452F-4DF2-88D1-D0CC31A1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55640" y="420840"/>
            <a:ext cx="8569440" cy="58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EEDF-E828-4C16-A970-FA49BC2F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75A7-225F-43F5-911E-20D7C4AE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757EA-6598-45D6-AF80-62248103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B9E3-0D88-4895-8580-8A233078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E7B0-1F5D-4B43-A919-C06473B8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375A-0780-4C5D-99CD-6701DD45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C0EF-975C-4017-B5CA-14246C5EF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292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056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5564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65292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55056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3E19-3AE1-489D-84B4-4379016C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8C5DF-4842-4B27-9FA4-4C06B50A0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7BC61-A117-4E38-8351-20D40106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1FE4D-C8AA-48CD-8DBD-30114225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AFA58-A3C2-4540-90FE-DA13EBA0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88FB3-B49D-4C57-B0DD-681F526B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5D277-2023-4724-97AD-8886C763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755640" y="420840"/>
            <a:ext cx="8569440" cy="58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47D01-4EDD-4AD5-BF3C-9E79D667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9D0A3-28BA-4667-8495-E5A1ACDA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DCCD3-79AC-45DD-A342-004063CF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2F7E5-B450-43A6-B11E-579494EA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8B2DA-9BEE-456F-BDD8-4F36A3BD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837F9-9FBB-49A7-A079-F36D9D58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65292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55056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75564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65292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55056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19372-EEE8-4A5E-A858-AC4709BD2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3B234-E254-4352-BAF1-750A45D0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B5D0C-A6DD-4498-8CEE-DE0691FB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1AFD3-DE80-4416-B20B-8E9B563B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CC327-DD3D-4E11-A823-B60E621E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3CA7A-A320-4DC7-BFA8-A854B87A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E26A3-DE19-4A78-95A0-98DFB92F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755640" y="420840"/>
            <a:ext cx="8569440" cy="58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6F251-200B-489B-A4F5-27E4579E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07EC8-165C-4527-A727-5290887F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5DBDD-0F5C-4463-9584-6F4FC133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4FF10-4B28-4260-A318-9877F42A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50FE7-1059-4CBE-BB11-38378560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6BF34-3B26-4DFD-A7C7-3AB6CB3F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65292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55056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75564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65292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55056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F9C6A-AE53-490A-A0C1-29FC254C3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70D04-8119-4B2E-B870-F3B5EE2CF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852DE-EEBF-455E-B1D4-6BE10843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B9EB6-4B7D-4397-9E7C-52F7F75B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9B98C-0544-4EA9-AD47-743F0550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BE7D8-895F-4E8F-A67E-CA3C2283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34D79-D1E1-46E3-9ACC-AF64EBDF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755640" y="420840"/>
            <a:ext cx="8569440" cy="58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210AF-32A6-460F-AD1F-7865AA67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7AAF2-C4BF-43B4-9125-B4237844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DCE10-A00C-45CD-9BCE-07AA7B19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4FA11-B3F6-4ED4-8C9A-A10E11DD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A649A-9F55-4E9D-84DA-71D41EA3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96F36-54DF-419A-836E-E6C3A2BA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755640" y="420840"/>
            <a:ext cx="8569440" cy="58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FDFD8-287C-4B11-A8B1-5D592751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65292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55056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75564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65292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55056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F9306-C06A-48ED-9583-B19582B9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316A9-0AA9-4CE3-BDDB-7E870709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E489A-BA4D-495F-B8E7-4122A37A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9F8CE-49BD-4F0D-8F75-323B9683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3F98C-321A-4EAB-87F1-9DAFA501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74F1D-3D23-443D-9299-1561C7E8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755640" y="420840"/>
            <a:ext cx="8569440" cy="58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23457-D416-408E-B321-08AF783B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D085C-1BF4-452E-B608-54FA2C91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7B022-5E64-43EE-8EE7-7112D55E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7FE7C-621B-4056-BB7E-B97AFD4B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81AE5-3496-488D-9DA4-2275C11C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7B7C4-F428-4C34-860B-A119CE68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068B1-C3B1-4365-B6DF-771404BB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65292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55056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75564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65292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55056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D6B8F-256F-4EE4-9473-E067C3CAB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96F34-0EED-427F-B898-E9F29AB0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B0CED-1AB6-4E8D-A08B-46F2F0F4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097640" cy="7559280"/>
            <a:chOff x="0" y="0"/>
            <a:chExt cx="10097640" cy="7559280"/>
          </a:xfrm>
        </p:grpSpPr>
        <p:sp>
          <p:nvSpPr>
            <p:cNvPr id="1" name=""/>
            <p:cNvSpPr/>
            <p:nvPr/>
          </p:nvSpPr>
          <p:spPr>
            <a:xfrm>
              <a:off x="9156240" y="1440"/>
              <a:ext cx="923760" cy="755784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847880" y="0"/>
              <a:ext cx="335520" cy="75592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24000" y="0"/>
              <a:ext cx="756000" cy="75592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947760" y="0"/>
              <a:ext cx="420120" cy="7559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352240" y="0"/>
              <a:ext cx="671760" cy="755928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9880" y="0"/>
              <a:ext cx="1008000" cy="755928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04000" y="0"/>
              <a:ext cx="335880" cy="75592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04000" cy="75592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780000" y="0"/>
              <a:ext cx="419760" cy="755928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872240" y="0"/>
              <a:ext cx="923760" cy="75592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183760" y="0"/>
              <a:ext cx="252000" cy="755928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775120" y="0"/>
              <a:ext cx="440640" cy="755928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48240" y="0"/>
              <a:ext cx="252000" cy="75592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64360" y="0"/>
              <a:ext cx="1175760" cy="75592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132240" y="0"/>
              <a:ext cx="1091520" cy="75592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720120" y="0"/>
              <a:ext cx="924120" cy="75592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44240" y="0"/>
              <a:ext cx="419760" cy="75592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690080" y="0"/>
              <a:ext cx="265680" cy="755928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140360" y="0"/>
              <a:ext cx="587880" cy="75592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780960"/>
              <a:ext cx="10080360" cy="778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766560"/>
              <a:ext cx="10097640" cy="30456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876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876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3" marL="1763640" indent="-252360">
              <a:spcBef>
                <a:spcPts val="8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2268360" indent="-252360">
              <a:spcBef>
                <a:spcPts val="876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7224480" y="6881760"/>
            <a:ext cx="235260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B61A6660-7FF3-4CE4-864F-2A39CA3E0DA1}" type="slidenum">
              <a:rPr b="0" lang="en-US" sz="11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504360" y="6888240"/>
            <a:ext cx="235116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10097640" cy="7559280"/>
            <a:chOff x="0" y="0"/>
            <a:chExt cx="10097640" cy="7559280"/>
          </a:xfrm>
        </p:grpSpPr>
        <p:sp>
          <p:nvSpPr>
            <p:cNvPr id="64" name=""/>
            <p:cNvSpPr/>
            <p:nvPr/>
          </p:nvSpPr>
          <p:spPr>
            <a:xfrm>
              <a:off x="9156240" y="1440"/>
              <a:ext cx="923760" cy="755784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47880" y="0"/>
              <a:ext cx="335520" cy="75592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24000" y="0"/>
              <a:ext cx="756000" cy="75592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47760" y="0"/>
              <a:ext cx="420120" cy="7559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52240" y="0"/>
              <a:ext cx="671760" cy="755928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9880" y="0"/>
              <a:ext cx="1008000" cy="755928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4000" y="0"/>
              <a:ext cx="335880" cy="75592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504000" cy="75592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80000" y="0"/>
              <a:ext cx="419760" cy="755928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2240" y="0"/>
              <a:ext cx="923760" cy="75592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83760" y="0"/>
              <a:ext cx="252000" cy="755928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775120" y="0"/>
              <a:ext cx="440640" cy="755928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148240" y="0"/>
              <a:ext cx="252000" cy="75592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64360" y="0"/>
              <a:ext cx="1175760" cy="75592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32240" y="0"/>
              <a:ext cx="1091520" cy="75592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20120" y="0"/>
              <a:ext cx="924120" cy="75592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44240" y="0"/>
              <a:ext cx="419760" cy="75592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90080" y="0"/>
              <a:ext cx="265680" cy="755928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40360" y="0"/>
              <a:ext cx="587880" cy="75592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780960"/>
              <a:ext cx="10080360" cy="778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766560"/>
              <a:ext cx="10097640" cy="30456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1763280"/>
            <a:ext cx="8569440" cy="2016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53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504360" y="6881760"/>
            <a:ext cx="235116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7224480" y="6881760"/>
            <a:ext cx="235260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650BB0F9-A8E7-4AD5-89D3-DE9BFA77A4BE}" type="slidenum">
              <a:rPr b="0" lang="en-US" sz="11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503280" indent="0" algn="ctr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2" marL="1008000" algn="ctr">
              <a:spcBef>
                <a:spcPts val="64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3" marL="1511280" algn="ctr"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4" marL="2016000" algn="ctr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5" marL="201600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6" marL="201600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F113B-E81E-4012-8810-C245B743C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6916320" y="-23760"/>
            <a:ext cx="3270240" cy="3633840"/>
            <a:chOff x="6916320" y="-23760"/>
            <a:chExt cx="3270240" cy="3633840"/>
          </a:xfrm>
        </p:grpSpPr>
        <p:grpSp>
          <p:nvGrpSpPr>
            <p:cNvPr id="168" name=""/>
            <p:cNvGrpSpPr/>
            <p:nvPr/>
          </p:nvGrpSpPr>
          <p:grpSpPr>
            <a:xfrm>
              <a:off x="8342280" y="2756520"/>
              <a:ext cx="1107720" cy="831240"/>
              <a:chOff x="8342280" y="2756520"/>
              <a:chExt cx="1107720" cy="831240"/>
            </a:xfrm>
          </p:grpSpPr>
          <p:sp>
            <p:nvSpPr>
              <p:cNvPr id="169" name=""/>
              <p:cNvSpPr/>
              <p:nvPr/>
            </p:nvSpPr>
            <p:spPr>
              <a:xfrm>
                <a:off x="8342280" y="2756520"/>
                <a:ext cx="1107720" cy="8312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740080" y="3120120"/>
                <a:ext cx="266760" cy="1558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8597520" y="1591560"/>
              <a:ext cx="1108080" cy="831240"/>
              <a:chOff x="8597520" y="1591560"/>
              <a:chExt cx="1108080" cy="831240"/>
            </a:xfrm>
          </p:grpSpPr>
          <p:sp>
            <p:nvSpPr>
              <p:cNvPr id="172" name=""/>
              <p:cNvSpPr/>
              <p:nvPr/>
            </p:nvSpPr>
            <p:spPr>
              <a:xfrm>
                <a:off x="8597520" y="1591560"/>
                <a:ext cx="1108080" cy="8312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95680" y="1955160"/>
                <a:ext cx="266760" cy="1558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6977520" y="0"/>
              <a:ext cx="1108080" cy="831240"/>
              <a:chOff x="6977520" y="0"/>
              <a:chExt cx="1108080" cy="831240"/>
            </a:xfrm>
          </p:grpSpPr>
          <p:sp>
            <p:nvSpPr>
              <p:cNvPr id="175" name=""/>
              <p:cNvSpPr/>
              <p:nvPr/>
            </p:nvSpPr>
            <p:spPr>
              <a:xfrm>
                <a:off x="6977520" y="0"/>
                <a:ext cx="1108080" cy="8312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375680" y="363600"/>
                <a:ext cx="266760" cy="1558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6916320" y="-23760"/>
              <a:ext cx="3270240" cy="3633840"/>
              <a:chOff x="6916320" y="-23760"/>
              <a:chExt cx="3270240" cy="363384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7707240" y="444240"/>
                <a:ext cx="1652040" cy="1217880"/>
                <a:chOff x="7707240" y="444240"/>
                <a:chExt cx="1652040" cy="12178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707240" y="444240"/>
                  <a:ext cx="1652040" cy="121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338320" y="889560"/>
                  <a:ext cx="327600" cy="22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6916320" y="-23760"/>
                <a:ext cx="3161520" cy="2501640"/>
                <a:chOff x="6916320" y="-23760"/>
                <a:chExt cx="3161520" cy="250164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8637120" y="929160"/>
                  <a:ext cx="1173240" cy="1258200"/>
                  <a:chOff x="8637120" y="929160"/>
                  <a:chExt cx="1173240" cy="125820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rot="2711400">
                    <a:off x="8555400" y="1248840"/>
                    <a:ext cx="97524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rot="2711400">
                    <a:off x="9266040" y="1765440"/>
                    <a:ext cx="523080" cy="27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8648640" y="849960"/>
                  <a:ext cx="1395000" cy="1160280"/>
                  <a:chOff x="8648640" y="849960"/>
                  <a:chExt cx="1395000" cy="116028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rot="2103600">
                    <a:off x="8611560" y="1126800"/>
                    <a:ext cx="102636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rot="2103600">
                    <a:off x="9454320" y="1571400"/>
                    <a:ext cx="55080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8643960" y="811080"/>
                  <a:ext cx="1419480" cy="913320"/>
                  <a:chOff x="8643960" y="811080"/>
                  <a:chExt cx="1419480" cy="91332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rot="1582800">
                    <a:off x="8631000" y="1019880"/>
                    <a:ext cx="98136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rot="1582800">
                    <a:off x="9504000" y="1352520"/>
                    <a:ext cx="526680" cy="26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8640360" y="767160"/>
                  <a:ext cx="1437480" cy="738360"/>
                  <a:chOff x="8640360" y="767160"/>
                  <a:chExt cx="1437480" cy="73836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rot="1080000">
                    <a:off x="8646480" y="909000"/>
                    <a:ext cx="948240" cy="18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rot="1080000">
                    <a:off x="9534600" y="1136160"/>
                    <a:ext cx="509400" cy="29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8657280" y="725400"/>
                  <a:ext cx="1348920" cy="460440"/>
                  <a:chOff x="8657280" y="725400"/>
                  <a:chExt cx="1348920" cy="4604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rot="463200">
                    <a:off x="8665200" y="783000"/>
                    <a:ext cx="87372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rot="463200">
                    <a:off x="9520200" y="878400"/>
                    <a:ext cx="469440" cy="27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8678520" y="697680"/>
                  <a:ext cx="1219680" cy="203400"/>
                  <a:chOff x="8678520" y="697680"/>
                  <a:chExt cx="1219680" cy="20340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rot="21515400">
                    <a:off x="8679600" y="713520"/>
                    <a:ext cx="793800" cy="1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21515400">
                    <a:off x="9469440" y="702720"/>
                    <a:ext cx="426240" cy="19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8649000" y="462240"/>
                  <a:ext cx="1084320" cy="361080"/>
                  <a:chOff x="8649000" y="462240"/>
                  <a:chExt cx="1084320" cy="3610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20797200">
                    <a:off x="8653320" y="622800"/>
                    <a:ext cx="69768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20797200">
                    <a:off x="9342000" y="502920"/>
                    <a:ext cx="37440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7208280" y="998640"/>
                  <a:ext cx="1173600" cy="1258560"/>
                  <a:chOff x="7208280" y="998640"/>
                  <a:chExt cx="1173600" cy="125856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flipH="1" rot="18888600">
                    <a:off x="7487640" y="1318320"/>
                    <a:ext cx="97560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 rot="18888600">
                    <a:off x="7229520" y="1834920"/>
                    <a:ext cx="523800" cy="27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6950160" y="949320"/>
                  <a:ext cx="1395360" cy="1160280"/>
                  <a:chOff x="6950160" y="949320"/>
                  <a:chExt cx="1395360" cy="116028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flipH="1" rot="19496400">
                    <a:off x="7355160" y="1226160"/>
                    <a:ext cx="102636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 rot="19496400">
                    <a:off x="6988320" y="1671120"/>
                    <a:ext cx="55116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6930720" y="911880"/>
                  <a:ext cx="1419480" cy="913680"/>
                  <a:chOff x="6930720" y="911880"/>
                  <a:chExt cx="1419480" cy="91368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H="1" rot="20017200">
                    <a:off x="7380720" y="1121040"/>
                    <a:ext cx="9817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20017200">
                    <a:off x="6962760" y="1453320"/>
                    <a:ext cx="527040" cy="269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6916320" y="868320"/>
                  <a:ext cx="1436760" cy="737640"/>
                  <a:chOff x="6916320" y="868320"/>
                  <a:chExt cx="1436760" cy="7376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flipH="1" rot="20520000">
                    <a:off x="7398360" y="1010160"/>
                    <a:ext cx="94824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flipH="1" rot="20520000">
                    <a:off x="6949080" y="1236600"/>
                    <a:ext cx="509400" cy="29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6988320" y="826560"/>
                  <a:ext cx="1348200" cy="458640"/>
                  <a:chOff x="6988320" y="826560"/>
                  <a:chExt cx="1348200" cy="45864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flipH="1" rot="21136800">
                    <a:off x="7455240" y="884160"/>
                    <a:ext cx="873360" cy="17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 rot="21136800">
                    <a:off x="7004520" y="979200"/>
                    <a:ext cx="469080" cy="27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7095960" y="797040"/>
                  <a:ext cx="1220040" cy="203760"/>
                  <a:chOff x="7095960" y="797040"/>
                  <a:chExt cx="1220040" cy="20376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flipH="1" rot="84600">
                    <a:off x="7520040" y="813240"/>
                    <a:ext cx="794160" cy="1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H="1" rot="84600">
                    <a:off x="7097760" y="802080"/>
                    <a:ext cx="426240" cy="19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7260120" y="562320"/>
                  <a:ext cx="1084320" cy="360360"/>
                  <a:chOff x="7260120" y="562320"/>
                  <a:chExt cx="1084320" cy="36036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flipH="1" rot="802800">
                    <a:off x="7641720" y="722520"/>
                    <a:ext cx="69768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 rot="802800">
                    <a:off x="7276680" y="603000"/>
                    <a:ext cx="37440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7318440" y="430560"/>
                  <a:ext cx="1066320" cy="498240"/>
                  <a:chOff x="7318440" y="430560"/>
                  <a:chExt cx="1066320" cy="49824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flipH="1" rot="1278000">
                    <a:off x="7688880" y="684000"/>
                    <a:ext cx="696960" cy="12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flipH="1" rot="1278000">
                    <a:off x="7340040" y="491760"/>
                    <a:ext cx="374400" cy="19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7443720" y="245160"/>
                  <a:ext cx="995040" cy="691560"/>
                  <a:chOff x="7443720" y="245160"/>
                  <a:chExt cx="995040" cy="69156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flipH="1" rot="2028600">
                    <a:off x="7765200" y="631440"/>
                    <a:ext cx="69804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 rot="2028600">
                    <a:off x="7464240" y="333000"/>
                    <a:ext cx="374760" cy="19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7570800" y="63720"/>
                  <a:ext cx="911160" cy="839880"/>
                  <a:chOff x="7570800" y="63720"/>
                  <a:chExt cx="911160" cy="83988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flipH="1" rot="2664600">
                    <a:off x="7832880" y="551520"/>
                    <a:ext cx="70776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rot="2664600">
                    <a:off x="7582680" y="169560"/>
                    <a:ext cx="38052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7840440" y="17280"/>
                  <a:ext cx="669960" cy="865800"/>
                  <a:chOff x="7840440" y="17280"/>
                  <a:chExt cx="669960" cy="86580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flipH="1" rot="3474000">
                    <a:off x="7981560" y="525960"/>
                    <a:ext cx="62280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H="1" rot="3474000">
                    <a:off x="7842240" y="114120"/>
                    <a:ext cx="33444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8034840" y="-23760"/>
                  <a:ext cx="513720" cy="891720"/>
                  <a:chOff x="8034840" y="-23760"/>
                  <a:chExt cx="513720" cy="89172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flipH="1" rot="4126800">
                    <a:off x="8083440" y="505800"/>
                    <a:ext cx="59940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flipH="1" rot="4126800">
                    <a:off x="8020800" y="65160"/>
                    <a:ext cx="32220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8591760" y="299880"/>
                  <a:ext cx="1062000" cy="509760"/>
                  <a:chOff x="8591760" y="299880"/>
                  <a:chExt cx="1062000" cy="50976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rot="20274000">
                    <a:off x="8588880" y="561600"/>
                    <a:ext cx="69696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rot="20274000">
                    <a:off x="9257400" y="363240"/>
                    <a:ext cx="374040" cy="19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8530560" y="150120"/>
                  <a:ext cx="1009800" cy="666720"/>
                  <a:chOff x="8530560" y="150120"/>
                  <a:chExt cx="1009800" cy="66672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rot="19678800">
                    <a:off x="8509680" y="519120"/>
                    <a:ext cx="69804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rot="19678800">
                    <a:off x="9142920" y="234720"/>
                    <a:ext cx="374760" cy="19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5" name=""/>
                <p:cNvSpPr/>
                <p:nvPr/>
              </p:nvSpPr>
              <p:spPr>
                <a:xfrm flipH="1" rot="4578600">
                  <a:off x="8179920" y="536400"/>
                  <a:ext cx="581400" cy="820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4578600">
                  <a:off x="8193240" y="110520"/>
                  <a:ext cx="311400" cy="1292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8451000" y="-12960"/>
                  <a:ext cx="549000" cy="871920"/>
                  <a:chOff x="8451000" y="-12960"/>
                  <a:chExt cx="549000" cy="87192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rot="17742000">
                    <a:off x="8327520" y="513720"/>
                    <a:ext cx="600840" cy="10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rot="17742000">
                    <a:off x="8695440" y="85680"/>
                    <a:ext cx="32220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8448120" y="42480"/>
                  <a:ext cx="866160" cy="823680"/>
                  <a:chOff x="8448120" y="42480"/>
                  <a:chExt cx="866160" cy="82368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rot="18822600">
                    <a:off x="8402040" y="501120"/>
                    <a:ext cx="6534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18822600">
                    <a:off x="8931600" y="132120"/>
                    <a:ext cx="350640" cy="23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8498520" y="-1440"/>
                  <a:ext cx="195480" cy="822600"/>
                  <a:chOff x="8498520" y="-1440"/>
                  <a:chExt cx="195480" cy="82260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 rot="16696200">
                    <a:off x="8291520" y="526680"/>
                    <a:ext cx="53892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520" bIns="25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rot="16696200">
                    <a:off x="8490960" y="109080"/>
                    <a:ext cx="28908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7399440" y="1025280"/>
                  <a:ext cx="1006200" cy="1376280"/>
                  <a:chOff x="7399440" y="1025280"/>
                  <a:chExt cx="1006200" cy="137628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 flipH="1" rot="18336000">
                    <a:off x="7562880" y="1384560"/>
                    <a:ext cx="97452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 rot="18336000">
                    <a:off x="7401960" y="1969920"/>
                    <a:ext cx="522720" cy="27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7733160" y="1079640"/>
                  <a:ext cx="679680" cy="1375560"/>
                  <a:chOff x="7733160" y="1079640"/>
                  <a:chExt cx="679680" cy="137556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flipH="1" rot="17543400">
                    <a:off x="7707960" y="1441800"/>
                    <a:ext cx="90216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 rot="17543400">
                    <a:off x="7710840" y="2040120"/>
                    <a:ext cx="483840" cy="27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8061120" y="1104120"/>
                  <a:ext cx="401040" cy="1342080"/>
                  <a:chOff x="8061120" y="1104120"/>
                  <a:chExt cx="401040" cy="134208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 flipH="1" rot="16870800">
                    <a:off x="7867440" y="1464480"/>
                    <a:ext cx="865440" cy="15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H="1" rot="16870800">
                    <a:off x="7995960" y="2068920"/>
                    <a:ext cx="46476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8598240" y="1002600"/>
                  <a:ext cx="1047240" cy="1355040"/>
                  <a:chOff x="8598240" y="1002600"/>
                  <a:chExt cx="1047240" cy="13550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 rot="3144000">
                    <a:off x="8478000" y="1354320"/>
                    <a:ext cx="97524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rot="3144000">
                    <a:off x="9114120" y="1926720"/>
                    <a:ext cx="5230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8584200" y="1053720"/>
                  <a:ext cx="807840" cy="1391400"/>
                  <a:chOff x="8584200" y="1053720"/>
                  <a:chExt cx="807840" cy="139140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rot="3745200">
                    <a:off x="8408520" y="1421640"/>
                    <a:ext cx="93348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rot="3745200">
                    <a:off x="8907840" y="2028600"/>
                    <a:ext cx="500400" cy="265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8552160" y="1108080"/>
                  <a:ext cx="562320" cy="1369800"/>
                  <a:chOff x="8552160" y="1108080"/>
                  <a:chExt cx="562320" cy="136980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 rot="4286400">
                    <a:off x="8309520" y="1489320"/>
                    <a:ext cx="90504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rot="4286400">
                    <a:off x="8690760" y="2103480"/>
                    <a:ext cx="485640" cy="21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8525880" y="1167120"/>
                  <a:ext cx="320040" cy="1274400"/>
                  <a:chOff x="8525880" y="1167120"/>
                  <a:chExt cx="320040" cy="127440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rot="4898400">
                    <a:off x="8238960" y="1519200"/>
                    <a:ext cx="83232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rot="4898400">
                    <a:off x="8481960" y="2095200"/>
                    <a:ext cx="446760" cy="21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8268840" y="1188360"/>
                  <a:ext cx="304920" cy="1247400"/>
                  <a:chOff x="8268840" y="1188360"/>
                  <a:chExt cx="304920" cy="124740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rot="5755200">
                    <a:off x="8071920" y="1545120"/>
                    <a:ext cx="81360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rot="5755200">
                    <a:off x="8156160" y="2126520"/>
                    <a:ext cx="43632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0" name=""/>
              <p:cNvSpPr/>
              <p:nvPr/>
            </p:nvSpPr>
            <p:spPr>
              <a:xfrm flipH="1">
                <a:off x="8043120" y="1347840"/>
                <a:ext cx="275400" cy="836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7545240" y="1005120"/>
                <a:ext cx="2402280" cy="2604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8479080" y="257760"/>
                <a:ext cx="1707480" cy="2314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7666560" y="837000"/>
                <a:ext cx="1047960" cy="2606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7168680" y="906120"/>
                <a:ext cx="1616760" cy="2604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7068240" y="660960"/>
                <a:ext cx="1685520" cy="2606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505720" y="849600"/>
                <a:ext cx="266040" cy="2607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476920" y="844200"/>
                <a:ext cx="704520" cy="2606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470080" y="668160"/>
                <a:ext cx="1000080" cy="2606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818560" y="1490400"/>
                <a:ext cx="273960" cy="837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 rot="19660800">
                <a:off x="8391240" y="1215360"/>
                <a:ext cx="249120" cy="473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6991920" y="460080"/>
                <a:ext cx="1684800" cy="2606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7135920" y="177120"/>
                <a:ext cx="1416600" cy="260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397720" y="724320"/>
                <a:ext cx="597600" cy="260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7226280" y="1416600"/>
                <a:ext cx="613080" cy="861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7515720" y="504720"/>
                <a:ext cx="393840" cy="862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7967880" y="248040"/>
                <a:ext cx="236520" cy="861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9439920" y="1289880"/>
                <a:ext cx="569880" cy="906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9144360" y="830880"/>
                <a:ext cx="858240" cy="604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9176040" y="190440"/>
                <a:ext cx="375120" cy="810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20253000">
                <a:off x="8805240" y="863640"/>
                <a:ext cx="250920" cy="474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 rot="1347000">
                <a:off x="7913880" y="851040"/>
                <a:ext cx="249480" cy="474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3399"/>
              </a:buClr>
              <a:buFont typeface="Arial Black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1" marL="819000" indent="-315720">
              <a:spcBef>
                <a:spcPts val="876"/>
              </a:spcBef>
              <a:buClr>
                <a:srgbClr val="fe1f08"/>
              </a:buClr>
              <a:buFont typeface="Arial Black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2" marL="1260360" indent="-252360">
              <a:spcBef>
                <a:spcPts val="876"/>
              </a:spcBef>
              <a:buClr>
                <a:srgbClr val="ffcc00"/>
              </a:buClr>
              <a:buFont typeface="Arial Black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3" marL="1763640" indent="-252360">
              <a:spcBef>
                <a:spcPts val="876"/>
              </a:spcBef>
              <a:buClr>
                <a:srgbClr val="ffcc00"/>
              </a:buClr>
              <a:buFont typeface="Times New Roman"/>
              <a:buChar char="−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5" marL="2268360" indent="-252360">
              <a:spcBef>
                <a:spcPts val="876"/>
              </a:spcBef>
              <a:buClr>
                <a:srgbClr val="ffcc00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6" marL="2268360" indent="-252360">
              <a:spcBef>
                <a:spcPts val="876"/>
              </a:spcBef>
              <a:buClr>
                <a:srgbClr val="ffcc00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0"/>
          </p:nvPr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1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2"/>
          </p:nvPr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0B8C00FB-7770-4E84-AE83-7624CE8CD6AA}" type="slidenum">
              <a:rPr b="0" lang="en-US" sz="15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2216160" y="270000"/>
            <a:ext cx="7859160" cy="8733960"/>
            <a:chOff x="2216160" y="270000"/>
            <a:chExt cx="7859160" cy="8733960"/>
          </a:xfrm>
        </p:grpSpPr>
        <p:grpSp>
          <p:nvGrpSpPr>
            <p:cNvPr id="344" name=""/>
            <p:cNvGrpSpPr/>
            <p:nvPr/>
          </p:nvGrpSpPr>
          <p:grpSpPr>
            <a:xfrm>
              <a:off x="3839040" y="1050840"/>
              <a:ext cx="1042920" cy="781920"/>
              <a:chOff x="3839040" y="1050840"/>
              <a:chExt cx="1042920" cy="781920"/>
            </a:xfrm>
          </p:grpSpPr>
          <p:sp>
            <p:nvSpPr>
              <p:cNvPr id="345" name=""/>
              <p:cNvSpPr/>
              <p:nvPr/>
            </p:nvSpPr>
            <p:spPr>
              <a:xfrm>
                <a:off x="3839040" y="1050840"/>
                <a:ext cx="1042920" cy="781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213440" y="1392840"/>
                <a:ext cx="250920" cy="1465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216160" y="270000"/>
              <a:ext cx="7859160" cy="8494920"/>
              <a:chOff x="2216160" y="270000"/>
              <a:chExt cx="7859160" cy="849492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2216160" y="270000"/>
                <a:ext cx="7597800" cy="6009840"/>
                <a:chOff x="2216160" y="270000"/>
                <a:chExt cx="7597800" cy="600984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4117680" y="1395000"/>
                  <a:ext cx="3968640" cy="2923560"/>
                  <a:chOff x="4117680" y="1395000"/>
                  <a:chExt cx="3968640" cy="292356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4117680" y="1395000"/>
                    <a:ext cx="3968640" cy="2923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5633640" y="2464560"/>
                    <a:ext cx="786960" cy="551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2216160" y="270000"/>
                  <a:ext cx="7597800" cy="6009840"/>
                  <a:chOff x="2216160" y="270000"/>
                  <a:chExt cx="7597800" cy="6009840"/>
                </a:xfrm>
              </p:grpSpPr>
              <p:grpSp>
                <p:nvGrpSpPr>
                  <p:cNvPr id="353" name=""/>
                  <p:cNvGrpSpPr/>
                  <p:nvPr/>
                </p:nvGrpSpPr>
                <p:grpSpPr>
                  <a:xfrm>
                    <a:off x="6352920" y="2558880"/>
                    <a:ext cx="2820240" cy="3023640"/>
                    <a:chOff x="6352920" y="2558880"/>
                    <a:chExt cx="2820240" cy="3023640"/>
                  </a:xfrm>
                </p:grpSpPr>
                <p:sp>
                  <p:nvSpPr>
                    <p:cNvPr id="354" name=""/>
                    <p:cNvSpPr/>
                    <p:nvPr/>
                  </p:nvSpPr>
                  <p:spPr>
                    <a:xfrm rot="2711400">
                      <a:off x="6157440" y="3327480"/>
                      <a:ext cx="2343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 rot="2711400">
                      <a:off x="7865280" y="4568760"/>
                      <a:ext cx="1257120" cy="66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6379920" y="2367360"/>
                    <a:ext cx="3352680" cy="2788920"/>
                    <a:chOff x="6379920" y="2367360"/>
                    <a:chExt cx="3352680" cy="278892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 rot="2103600">
                      <a:off x="6291360" y="3032640"/>
                      <a:ext cx="2466360" cy="47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 rot="2103600">
                      <a:off x="8315640" y="4102200"/>
                      <a:ext cx="1324080" cy="74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6367320" y="2275920"/>
                    <a:ext cx="3414240" cy="2197080"/>
                    <a:chOff x="6367320" y="2275920"/>
                    <a:chExt cx="3414240" cy="219708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 rot="1582800">
                      <a:off x="6336000" y="2778480"/>
                      <a:ext cx="236016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 rot="1582800">
                      <a:off x="8436600" y="3578040"/>
                      <a:ext cx="1267200" cy="64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6358320" y="2171520"/>
                    <a:ext cx="3455640" cy="1772280"/>
                    <a:chOff x="6358320" y="2171520"/>
                    <a:chExt cx="3455640" cy="177228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 rot="1080000">
                      <a:off x="6372720" y="2512440"/>
                      <a:ext cx="2279880" cy="45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 rot="1080000">
                      <a:off x="8508960" y="3057480"/>
                      <a:ext cx="1224720" cy="71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6400440" y="2071440"/>
                    <a:ext cx="3242520" cy="1104480"/>
                    <a:chOff x="6400440" y="2071440"/>
                    <a:chExt cx="3242520" cy="110448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 rot="463200">
                      <a:off x="6419160" y="2210400"/>
                      <a:ext cx="210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 rot="463200">
                      <a:off x="8474400" y="2439000"/>
                      <a:ext cx="1128600" cy="66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6450480" y="2000880"/>
                    <a:ext cx="2931480" cy="491400"/>
                    <a:chOff x="6450480" y="2000880"/>
                    <a:chExt cx="2931480" cy="49140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 rot="21515400">
                      <a:off x="6453720" y="2040120"/>
                      <a:ext cx="1908360" cy="29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 rot="21515400">
                      <a:off x="8351280" y="2013120"/>
                      <a:ext cx="1024920" cy="46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6381000" y="1437120"/>
                    <a:ext cx="2606400" cy="867960"/>
                    <a:chOff x="6381000" y="1437120"/>
                    <a:chExt cx="2606400" cy="86796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 rot="20797200">
                      <a:off x="6391800" y="1823040"/>
                      <a:ext cx="167616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 rot="20797200">
                      <a:off x="8046360" y="1535040"/>
                      <a:ext cx="900000" cy="45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2917440" y="2726280"/>
                    <a:ext cx="2818440" cy="3022200"/>
                    <a:chOff x="2917440" y="2726280"/>
                    <a:chExt cx="2818440" cy="302220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 flipH="1" rot="18888600">
                      <a:off x="3588120" y="3494880"/>
                      <a:ext cx="2343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 flipH="1" rot="18888600">
                      <a:off x="2967480" y="4734720"/>
                      <a:ext cx="1257120" cy="66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2297880" y="2607840"/>
                    <a:ext cx="3352320" cy="2788920"/>
                    <a:chOff x="2297880" y="2607840"/>
                    <a:chExt cx="3352320" cy="278892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 flipH="1" rot="19496400">
                      <a:off x="3272040" y="3273120"/>
                      <a:ext cx="2466000" cy="47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flipH="1" rot="19496400">
                      <a:off x="2390040" y="4342320"/>
                      <a:ext cx="1324080" cy="74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2248920" y="2516400"/>
                    <a:ext cx="3414600" cy="2197080"/>
                    <a:chOff x="2248920" y="2516400"/>
                    <a:chExt cx="3414600" cy="219708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 flipH="1" rot="20017200">
                      <a:off x="3333960" y="3018960"/>
                      <a:ext cx="2360520" cy="41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flipH="1" rot="20017200">
                      <a:off x="2326680" y="3818520"/>
                      <a:ext cx="1267200" cy="64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2216160" y="2411640"/>
                    <a:ext cx="3455640" cy="1772640"/>
                    <a:chOff x="2216160" y="2411640"/>
                    <a:chExt cx="3455640" cy="177264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 flipH="1" rot="20520000">
                      <a:off x="3376440" y="2752560"/>
                      <a:ext cx="2280240" cy="45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flipH="1" rot="20520000">
                      <a:off x="2296080" y="3297240"/>
                      <a:ext cx="1224360" cy="71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2387880" y="2311560"/>
                    <a:ext cx="3242160" cy="1104840"/>
                    <a:chOff x="2387880" y="2311560"/>
                    <a:chExt cx="3242160" cy="110484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flipH="1" rot="21136800">
                      <a:off x="3510360" y="2450520"/>
                      <a:ext cx="210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flipH="1" rot="21136800">
                      <a:off x="2427120" y="2679120"/>
                      <a:ext cx="1128240" cy="66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649240" y="2241360"/>
                    <a:ext cx="2931480" cy="491400"/>
                    <a:chOff x="2649240" y="2241360"/>
                    <a:chExt cx="2931480" cy="49140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 flipH="1" rot="84600">
                      <a:off x="3668760" y="2280960"/>
                      <a:ext cx="1908720" cy="29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flipH="1" rot="84600">
                      <a:off x="2654640" y="2253600"/>
                      <a:ext cx="1024920" cy="46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3043080" y="1677600"/>
                    <a:ext cx="2605680" cy="867960"/>
                    <a:chOff x="3043080" y="1677600"/>
                    <a:chExt cx="2605680" cy="86796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 flipH="1" rot="802800">
                      <a:off x="3961080" y="2063520"/>
                      <a:ext cx="167616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 flipH="1" rot="802800">
                      <a:off x="3083760" y="1775160"/>
                      <a:ext cx="899640" cy="45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3182400" y="1362960"/>
                    <a:ext cx="2563560" cy="1194480"/>
                    <a:chOff x="3182400" y="1362960"/>
                    <a:chExt cx="2563560" cy="11944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 flipH="1" rot="1278000">
                      <a:off x="4073400" y="1970640"/>
                      <a:ext cx="167616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 flipH="1" rot="1278000">
                      <a:off x="3234600" y="1510560"/>
                      <a:ext cx="900000" cy="45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3483360" y="915480"/>
                    <a:ext cx="2393640" cy="1662840"/>
                    <a:chOff x="3483360" y="915480"/>
                    <a:chExt cx="2393640" cy="166284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 flipH="1" rot="2028600">
                      <a:off x="4260960" y="1844640"/>
                      <a:ext cx="167616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 flipH="1" rot="2028600">
                      <a:off x="3534480" y="1126800"/>
                      <a:ext cx="899640" cy="45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3789720" y="480240"/>
                    <a:ext cx="2190960" cy="2019240"/>
                    <a:chOff x="3789720" y="480240"/>
                    <a:chExt cx="2190960" cy="201924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 flipH="1" rot="2664600">
                      <a:off x="4420080" y="1654200"/>
                      <a:ext cx="170064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 flipH="1" rot="2664600">
                      <a:off x="3819600" y="734040"/>
                      <a:ext cx="913320" cy="45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439520" y="369000"/>
                    <a:ext cx="1610280" cy="2079360"/>
                    <a:chOff x="4439520" y="369000"/>
                    <a:chExt cx="1610280" cy="20793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 flipH="1" rot="3474000">
                      <a:off x="4780800" y="1591200"/>
                      <a:ext cx="149544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flipH="1" rot="3474000">
                      <a:off x="4445640" y="601560"/>
                      <a:ext cx="803160" cy="45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4903560" y="270000"/>
                    <a:ext cx="1237320" cy="2145960"/>
                    <a:chOff x="4903560" y="270000"/>
                    <a:chExt cx="1237320" cy="2145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 flipH="1" rot="4126800">
                      <a:off x="5022000" y="1544400"/>
                      <a:ext cx="144216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 flipH="1" rot="4126800">
                      <a:off x="4869720" y="484560"/>
                      <a:ext cx="774720" cy="45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6241680" y="1049760"/>
                    <a:ext cx="2554200" cy="1225440"/>
                    <a:chOff x="6241680" y="1049760"/>
                    <a:chExt cx="2554200" cy="122544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 rot="20274000">
                      <a:off x="6234840" y="1678680"/>
                      <a:ext cx="167580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 rot="20274000">
                      <a:off x="7842960" y="1202040"/>
                      <a:ext cx="899640" cy="45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6095880" y="689760"/>
                    <a:ext cx="2423880" cy="1599840"/>
                    <a:chOff x="6095880" y="689760"/>
                    <a:chExt cx="2423880" cy="159984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 rot="19678800">
                      <a:off x="6045480" y="1575360"/>
                      <a:ext cx="167580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 rot="19678800">
                      <a:off x="7566840" y="893160"/>
                      <a:ext cx="899640" cy="45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6" name=""/>
                  <p:cNvSpPr/>
                  <p:nvPr/>
                </p:nvSpPr>
                <p:spPr>
                  <a:xfrm flipH="1" rot="4578600">
                    <a:off x="5254200" y="1616040"/>
                    <a:ext cx="1395720" cy="19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 rot="4578600">
                    <a:off x="5285520" y="593280"/>
                    <a:ext cx="750240" cy="31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8" name=""/>
                  <p:cNvGrpSpPr/>
                  <p:nvPr/>
                </p:nvGrpSpPr>
                <p:grpSpPr>
                  <a:xfrm>
                    <a:off x="5904360" y="297000"/>
                    <a:ext cx="1318680" cy="2095560"/>
                    <a:chOff x="5904360" y="297000"/>
                    <a:chExt cx="1318680" cy="2095560"/>
                  </a:xfrm>
                </p:grpSpPr>
                <p:sp>
                  <p:nvSpPr>
                    <p:cNvPr id="419" name=""/>
                    <p:cNvSpPr/>
                    <p:nvPr/>
                  </p:nvSpPr>
                  <p:spPr>
                    <a:xfrm rot="17742000">
                      <a:off x="5608080" y="1562760"/>
                      <a:ext cx="14436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 rot="17742000">
                      <a:off x="6490800" y="534600"/>
                      <a:ext cx="774360" cy="39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5895360" y="428400"/>
                    <a:ext cx="2085120" cy="1980360"/>
                    <a:chOff x="5895360" y="428400"/>
                    <a:chExt cx="2085120" cy="1980360"/>
                  </a:xfrm>
                </p:grpSpPr>
                <p:sp>
                  <p:nvSpPr>
                    <p:cNvPr id="422" name=""/>
                    <p:cNvSpPr/>
                    <p:nvPr/>
                  </p:nvSpPr>
                  <p:spPr>
                    <a:xfrm rot="18822600">
                      <a:off x="5785200" y="1530720"/>
                      <a:ext cx="1569960" cy="36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 rot="18822600">
                      <a:off x="7060320" y="643680"/>
                      <a:ext cx="842400" cy="57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6017040" y="322200"/>
                    <a:ext cx="471600" cy="1979280"/>
                    <a:chOff x="6017040" y="322200"/>
                    <a:chExt cx="471600" cy="1979280"/>
                  </a:xfrm>
                </p:grpSpPr>
                <p:sp>
                  <p:nvSpPr>
                    <p:cNvPr id="425" name=""/>
                    <p:cNvSpPr/>
                    <p:nvPr/>
                  </p:nvSpPr>
                  <p:spPr>
                    <a:xfrm rot="16696200">
                      <a:off x="5519880" y="1593360"/>
                      <a:ext cx="1296000" cy="11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rot="16696200">
                      <a:off x="5999760" y="587880"/>
                      <a:ext cx="695880" cy="18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3376080" y="2788560"/>
                    <a:ext cx="2420280" cy="3310560"/>
                    <a:chOff x="3376080" y="2788560"/>
                    <a:chExt cx="2420280" cy="3310560"/>
                  </a:xfrm>
                </p:grpSpPr>
                <p:sp>
                  <p:nvSpPr>
                    <p:cNvPr id="428" name=""/>
                    <p:cNvSpPr/>
                    <p:nvPr/>
                  </p:nvSpPr>
                  <p:spPr>
                    <a:xfrm flipH="1" rot="18336000">
                      <a:off x="3770280" y="3652560"/>
                      <a:ext cx="234288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 flipH="1" rot="18336000">
                      <a:off x="3383640" y="5061240"/>
                      <a:ext cx="1257120" cy="66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4179240" y="2921400"/>
                    <a:ext cx="1634400" cy="3306600"/>
                    <a:chOff x="4179240" y="2921400"/>
                    <a:chExt cx="1634400" cy="3306600"/>
                  </a:xfrm>
                </p:grpSpPr>
                <p:sp>
                  <p:nvSpPr>
                    <p:cNvPr id="431" name=""/>
                    <p:cNvSpPr/>
                    <p:nvPr/>
                  </p:nvSpPr>
                  <p:spPr>
                    <a:xfrm flipH="1" rot="17543400">
                      <a:off x="4120200" y="3792240"/>
                      <a:ext cx="216792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 flipH="1" rot="17543400">
                      <a:off x="4127040" y="5230080"/>
                      <a:ext cx="1163160" cy="66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4970160" y="2979000"/>
                    <a:ext cx="963360" cy="3226680"/>
                    <a:chOff x="4970160" y="2979000"/>
                    <a:chExt cx="963360" cy="322668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 flipH="1" rot="16870800">
                      <a:off x="4505040" y="3845160"/>
                      <a:ext cx="2079720" cy="38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flipH="1" rot="16870800">
                      <a:off x="4814640" y="5300280"/>
                      <a:ext cx="1115640" cy="60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6260040" y="2736360"/>
                    <a:ext cx="2514240" cy="3255120"/>
                    <a:chOff x="6260040" y="2736360"/>
                    <a:chExt cx="2514240" cy="325512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 rot="3144000">
                      <a:off x="5970960" y="3581640"/>
                      <a:ext cx="2343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rot="3144000">
                      <a:off x="7498080" y="4957200"/>
                      <a:ext cx="1257120" cy="66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6226200" y="2858400"/>
                    <a:ext cx="1938600" cy="3342600"/>
                    <a:chOff x="6226200" y="2858400"/>
                    <a:chExt cx="1938600" cy="334260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rot="3745200">
                      <a:off x="5804280" y="3742920"/>
                      <a:ext cx="2242440" cy="40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rot="3745200">
                      <a:off x="7002360" y="5201640"/>
                      <a:ext cx="1202760" cy="63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6147000" y="2987280"/>
                    <a:ext cx="1351080" cy="3292560"/>
                    <a:chOff x="6147000" y="2987280"/>
                    <a:chExt cx="1351080" cy="329256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 rot="4286400">
                      <a:off x="5563800" y="3904560"/>
                      <a:ext cx="2175840" cy="33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rot="4286400">
                      <a:off x="6479640" y="5380560"/>
                      <a:ext cx="1167480" cy="52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6086880" y="3130560"/>
                    <a:ext cx="768600" cy="3062160"/>
                    <a:chOff x="6086880" y="3130560"/>
                    <a:chExt cx="768600" cy="306216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 rot="4898400">
                      <a:off x="5397480" y="3976560"/>
                      <a:ext cx="1999440" cy="33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rot="4898400">
                      <a:off x="5980680" y="5361120"/>
                      <a:ext cx="1073880" cy="52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5468760" y="3182400"/>
                    <a:ext cx="731520" cy="2995200"/>
                    <a:chOff x="5468760" y="3182400"/>
                    <a:chExt cx="731520" cy="299520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 rot="5755200">
                      <a:off x="4995720" y="4039200"/>
                      <a:ext cx="1953360" cy="25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 rot="5755200">
                      <a:off x="5197680" y="5435280"/>
                      <a:ext cx="1047960" cy="40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51" name=""/>
              <p:cNvGrpSpPr/>
              <p:nvPr/>
            </p:nvGrpSpPr>
            <p:grpSpPr>
              <a:xfrm>
                <a:off x="2397240" y="752040"/>
                <a:ext cx="7678080" cy="8012880"/>
                <a:chOff x="2397240" y="752040"/>
                <a:chExt cx="7678080" cy="8012880"/>
              </a:xfrm>
            </p:grpSpPr>
            <p:grpSp>
              <p:nvGrpSpPr>
                <p:cNvPr id="452" name=""/>
                <p:cNvGrpSpPr/>
                <p:nvPr/>
              </p:nvGrpSpPr>
              <p:grpSpPr>
                <a:xfrm>
                  <a:off x="2397240" y="752040"/>
                  <a:ext cx="7678080" cy="8012880"/>
                  <a:chOff x="2397240" y="752040"/>
                  <a:chExt cx="7678080" cy="801288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flipV="1">
                    <a:off x="5971320" y="945360"/>
                    <a:ext cx="4104000" cy="5560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H="1">
                    <a:off x="2823840" y="2502720"/>
                    <a:ext cx="3884760" cy="6262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5948280" y="1931760"/>
                    <a:ext cx="2405160" cy="6262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flipH="1">
                    <a:off x="2396880" y="1431360"/>
                    <a:ext cx="4050360" cy="6262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flipH="1">
                    <a:off x="2743200" y="752040"/>
                    <a:ext cx="3407400" cy="6262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5774040" y="2067480"/>
                    <a:ext cx="1440000" cy="6262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flipH="1">
                    <a:off x="4744440" y="921600"/>
                    <a:ext cx="568080" cy="207144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0" name=""/>
                <p:cNvSpPr/>
                <p:nvPr/>
              </p:nvSpPr>
              <p:spPr>
                <a:xfrm rot="20253000">
                  <a:off x="6756480" y="2404080"/>
                  <a:ext cx="600840" cy="113760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1" name=""/>
            <p:cNvGrpSpPr/>
            <p:nvPr/>
          </p:nvGrpSpPr>
          <p:grpSpPr>
            <a:xfrm>
              <a:off x="2582280" y="785160"/>
              <a:ext cx="7067520" cy="8218800"/>
              <a:chOff x="2582280" y="785160"/>
              <a:chExt cx="7067520" cy="821880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4926240" y="3565080"/>
                <a:ext cx="659520" cy="2010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3728880" y="2741040"/>
                <a:ext cx="5769720" cy="626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4017960" y="2338560"/>
                <a:ext cx="2524320" cy="626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582280" y="1914840"/>
                <a:ext cx="4050000" cy="626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033600" y="2370240"/>
                <a:ext cx="641880" cy="626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965560" y="2355120"/>
                <a:ext cx="1693080" cy="626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84920" y="3909240"/>
                <a:ext cx="659520" cy="2010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 rot="19660800">
                <a:off x="5758560" y="3249720"/>
                <a:ext cx="600480" cy="1137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2961360" y="3731040"/>
                <a:ext cx="1475280" cy="2071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3656520" y="1540800"/>
                <a:ext cx="946080" cy="2071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280720" y="3426480"/>
                <a:ext cx="1369080" cy="2176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569720" y="2325240"/>
                <a:ext cx="2063880" cy="1450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645680" y="785160"/>
                <a:ext cx="901080" cy="1949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 rot="1347000">
                <a:off x="4610520" y="2374200"/>
                <a:ext cx="600840" cy="1137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dt" idx="13"/>
          </p:nvPr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ftr" idx="14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15"/>
          </p:nvPr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21CE5DC0-88BC-4FBA-B6FE-12ACD41E667D}" type="slidenum">
              <a:rPr b="0" lang="en-US" sz="15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16"/>
          </p:nvPr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17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18"/>
          </p:nvPr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A921D82D-53FD-47F3-BB7A-7A52138BDDCA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91680" y="274320"/>
            <a:ext cx="8874360" cy="1219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:  Under which conditions wi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. col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lls express (transcribe and translate) lots of beta-galactosida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20640" y="1646280"/>
            <a:ext cx="8569440" cy="2819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edium with glucose as the only su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edium with glucose and lact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edium with lactose as the only su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edium with galact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RS Question Icon" descr="PRS Question Icon"/>
          <p:cNvPicPr/>
          <p:nvPr/>
        </p:nvPicPr>
        <p:blipFill>
          <a:blip r:embed="rId1"/>
          <a:stretch/>
        </p:blipFill>
        <p:spPr>
          <a:xfrm>
            <a:off x="69840" y="685944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2"/>
          <a:srcRect l="0" t="24493" r="18636" b="0"/>
          <a:stretch/>
        </p:blipFill>
        <p:spPr>
          <a:xfrm>
            <a:off x="1839960" y="4998960"/>
            <a:ext cx="7935840" cy="256068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3"/>
          <a:stretch/>
        </p:blipFill>
        <p:spPr>
          <a:xfrm>
            <a:off x="6183360" y="3170160"/>
            <a:ext cx="368604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36600" y="167760"/>
            <a:ext cx="9407520" cy="86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:  What causes induction of the lac oper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72920" y="1036800"/>
            <a:ext cx="8569080" cy="3898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repressor binds to the operator, regardless of C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CAP binds to the promoter, regardless of Repres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Repressor binds to indu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both A) and B) occ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CAP binds to the promoter and Repressor is not bound to the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PRS Question Icon" descr="PRS Question Icon"/>
          <p:cNvPicPr/>
          <p:nvPr/>
        </p:nvPicPr>
        <p:blipFill>
          <a:blip r:embed="rId1"/>
          <a:stretch/>
        </p:blipFill>
        <p:spPr>
          <a:xfrm>
            <a:off x="69840" y="685944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2"/>
          <a:srcRect l="0" t="19992" r="18865" b="0"/>
          <a:stretch/>
        </p:blipFill>
        <p:spPr>
          <a:xfrm>
            <a:off x="1611360" y="4846680"/>
            <a:ext cx="7913520" cy="271296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4572000" y="4846680"/>
            <a:ext cx="368604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96960" y="-3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: In wild-typ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. col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ells in medium with glucose, and no lactos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96960" y="1417320"/>
            <a:ext cx="8569440" cy="2895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09480" indent="-609480">
              <a:spcBef>
                <a:spcPts val="774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AP binds to promot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74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Repressor binds to operato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74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Both CAP and Repressor bind to promoter and operator, respectivel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74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Neither bind 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PRS Question Icon" descr="PRS Question Icon"/>
          <p:cNvPicPr/>
          <p:nvPr/>
        </p:nvPicPr>
        <p:blipFill>
          <a:blip r:embed="rId1"/>
          <a:stretch/>
        </p:blipFill>
        <p:spPr>
          <a:xfrm>
            <a:off x="69840" y="685944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2"/>
          <a:srcRect l="0" t="0" r="20980" b="0"/>
          <a:stretch/>
        </p:blipFill>
        <p:spPr>
          <a:xfrm>
            <a:off x="2373480" y="4168800"/>
            <a:ext cx="7707240" cy="339084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3"/>
          <a:stretch/>
        </p:blipFill>
        <p:spPr>
          <a:xfrm>
            <a:off x="6183360" y="3398760"/>
            <a:ext cx="368604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36600" y="252000"/>
            <a:ext cx="9407520" cy="1089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:  If a mutation eliminates binding of inducer to the repressor, but the repressor still binds to DN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772920" y="1341000"/>
            <a:ext cx="8569080" cy="4343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c operon will be always ex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c operon will never be ex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c operon will be expressed whenever glucose is absent, regardless of the presence or absence of lact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c operon will be expressed when both glucose and lactose are pre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c operon will be expressed when glucose is present and lactose is ab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PRS Question Icon" descr="PRS Question Icon"/>
          <p:cNvPicPr/>
          <p:nvPr/>
        </p:nvPicPr>
        <p:blipFill>
          <a:blip r:embed="rId1"/>
          <a:stretch/>
        </p:blipFill>
        <p:spPr>
          <a:xfrm>
            <a:off x="69840" y="685944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5802480" y="5303880"/>
            <a:ext cx="368604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839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c operon demon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755640" y="167904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Need volunteers fo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RNA polymeras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Repressor protei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AP protei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96960" y="579240"/>
            <a:ext cx="85694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7300" spc="-1" strike="noStrike">
                <a:solidFill>
                  <a:srgbClr val="ffffcc"/>
                </a:solidFill>
                <a:latin typeface="Tahoma"/>
              </a:rPr>
              <a:t>The Lac Operetta</a:t>
            </a:r>
            <a:endParaRPr b="0" lang="en-US" sz="7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1382400" y="2637000"/>
            <a:ext cx="71866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musical? traves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apologies 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ty Pyth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do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chard Wagn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orge Gershw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orge Frideric Han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ghty Mo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4600" spc="-1" strike="noStrike">
                <a:solidFill>
                  <a:srgbClr val="ffffcc"/>
                </a:solidFill>
                <a:latin typeface="Tahoma"/>
              </a:rPr>
              <a:t>Cast of culprits, their tunes &amp; props</a:t>
            </a: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72920" y="2179440"/>
            <a:ext cx="8762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77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RNA polymerase (Underdog song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77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Repressor (Lumberjack song, Summertime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77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CAP protein (Mighty Mouse song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77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Chorus (Ride of the Valkyries)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77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Lactose (Milky Way bars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77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Glucose (Starbursts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77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Cyclic AMP (Cinnamon Fire Jolly Ranchers)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9155160" y="667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3192" fill="hold"/>
                                        <p:tgtEl>
                                          <p:spTgt spid="5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cene 1 – In the gluco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epressor (bound to the operator)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I'm a repressor and I'm Okay,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I “operate” on DNA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I keep RNA polymerase away,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Unless I get my Milky Way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horus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(S)He keeps RNA polymerase away,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Unless (s)he gets his (her) Milky Way.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2920" y="344160"/>
            <a:ext cx="9070920" cy="10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cene 1 – Still in the gluco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9070920" cy="61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Enter RNA polymerase (searching along DNA)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Oh, where oh where is my promoter,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Oh, where oh where can it be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Before I start making RN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I must on my promoter be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horus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Before she starts making RN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he must on her promoter be.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epressor (blocks RNA polymerase)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I keep RNA polymerase away,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Unless I get my Milky Way!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316080" y="2103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7879" fill="hold"/>
                                        <p:tgtEl>
                                          <p:spTgt spid="5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39760" y="307800"/>
            <a:ext cx="9524880" cy="13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cene 2 – In the land of milk and honey (both glucose and lactose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9070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epressor (grabbing Milky Way bars, floats away from the DNA)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Milky time, and the lactose is easy. 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I've got my lactose, don't care about DNA no mo'....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NA polymerase (resumes looking)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Oh, where oh where is my promoter,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Oh, where oh where can it be....?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39400" y="344160"/>
            <a:ext cx="9334440" cy="14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cene 3 – Impending Starvatio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no glucose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68000" y="1951200"/>
            <a:ext cx="907092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horus (throws cinnamon fire candy (cAMP)): 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No more glucose, we are starving,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nd alarms, or else we die!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AP (catches a couple of red hots, binds to promoter, waves to RNA polymerase)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Have no fear, I'm on my way!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e lac promoter, is right here,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Polymerase, can get in gear!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Polymerize lac RNA!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316080" y="24084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7065" fill="hold"/>
                                        <p:tgtEl>
                                          <p:spTgt spid="5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55640" y="339480"/>
            <a:ext cx="85708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 Black"/>
              </a:rPr>
              <a:t>Scene 3 – triumphant transcription; starvation averted</a:t>
            </a: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91680" y="2484000"/>
            <a:ext cx="937260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0000"/>
              </a:lnSpc>
              <a:spcBef>
                <a:spcPts val="774"/>
              </a:spcBef>
              <a:buClr>
                <a:srgbClr val="ff3399"/>
              </a:buClr>
              <a:buFont typeface="Arial Black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Arial Black"/>
              </a:rPr>
              <a:t>RNA polymerase transcribes lac RNA</a:t>
            </a:r>
            <a:endParaRPr b="0" lang="en-US" sz="3100" spc="-1" strike="noStrike">
              <a:solidFill>
                <a:srgbClr val="ffcc00"/>
              </a:solidFill>
              <a:latin typeface="Arial Black"/>
            </a:endParaRPr>
          </a:p>
          <a:p>
            <a:pPr marL="378000" indent="-378000">
              <a:lnSpc>
                <a:spcPct val="90000"/>
              </a:lnSpc>
              <a:spcBef>
                <a:spcPts val="774"/>
              </a:spcBef>
              <a:buClr>
                <a:srgbClr val="ff3399"/>
              </a:buClr>
              <a:buFont typeface="Arial Black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Arial Black"/>
              </a:rPr>
              <a:t>Chorus: </a:t>
            </a:r>
            <a:endParaRPr b="0" lang="en-US" sz="3100" spc="-1" strike="noStrike">
              <a:solidFill>
                <a:srgbClr val="ffcc00"/>
              </a:solidFill>
              <a:latin typeface="Arial Black"/>
            </a:endParaRPr>
          </a:p>
          <a:p>
            <a:pPr lvl="1" marL="819000" indent="-31572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NA polymerase transcribeth,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819000" indent="-31572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allelujah, hallelujah, hallelujah, hallelujah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819000" indent="-31572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ibosomes translate galactosidase,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819000" indent="-31572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allelujah, hallelujah, hallelujah, hallelujah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819000" indent="-31572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nd we shall live for ever and ever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819000" indent="-31572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nd we shall live for ever and ever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819000" indent="-31572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allelujah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9231480" y="6675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8251" fill="hold"/>
                                        <p:tgtEl>
                                          <p:spTgt spid="5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ng Choi</dc:creator>
  <dc:description/>
  <dc:language>en-US</dc:language>
  <cp:lastModifiedBy>Fujitsu</cp:lastModifiedBy>
  <dcterms:modified xsi:type="dcterms:W3CDTF">2010-03-01T22:04:09Z</dcterms:modified>
  <cp:revision>12</cp:revision>
  <dc:subject/>
  <dc:title>The Lac Operetta</dc:title>
</cp:coreProperties>
</file>